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616F-DF2B-4959-8370-2C34BCFC62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3A0-8E9A-4180-84C7-1DC3778729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BCB-445E-4B86-BAB0-4FFA375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DD5-7CF8-4315-AD33-E43ABC4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7ED-C230-4049-8B5A-60CB6CF7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3D5-0E37-4214-9770-A4BC7DE5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377-8B7D-487F-A3F9-F54B894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E55-1AC1-49EA-97B1-4548DDBE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C14-3CC9-47DF-A5F3-84AAD5E9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061-B378-45C2-9DE2-EB12A096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803-B497-4C85-B892-8F3C670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D15-9FB6-4EA0-A79C-415A264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2B8-6EA6-4E9D-A208-B4BD7F9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60C-4AA7-443A-9D2A-D060A12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C10-03F6-4AA8-88AF-1C6E253B83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-1044720" y="0"/>
          <a:ext cx="11738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4720" y="0"/>
                    <a:ext cx="11738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9:48:26Z</dcterms:created>
  <dc:creator>Steven</dc:creator>
  <dc:description/>
  <dc:language>en-US</dc:language>
  <cp:lastModifiedBy>Steven</cp:lastModifiedBy>
  <dcterms:modified xsi:type="dcterms:W3CDTF">2009-10-06T20:37:46Z</dcterms:modified>
  <cp:revision>2</cp:revision>
  <dc:subject/>
  <dc:title>幻灯片 1</dc:title>
</cp:coreProperties>
</file>